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4D7-485D-48CB-86FA-66BD7E8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600-BA72-4170-85A6-08B15C3C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10F-D32B-4EC3-9FE2-94269B8B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524-9E87-4500-AA9F-514CDFE1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3A6-355E-46B0-9EA3-A66E5556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20CF-2588-46FF-8054-4E6FE667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BE21-1A65-44E5-A207-6E8C5C8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902-58C2-4293-B0C5-3DC2B5F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74A-DE54-46EE-81E7-DAAB59E5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A61-8A83-4FF3-9BF0-F8EBCC3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A457-87CB-4713-BF4F-E071119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D32-864E-4D5E-BFAD-D5735E6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DB91-B34E-4DEB-ACC4-3AF1722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55A5-B4DE-45DB-9565-068CCD6E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7E68-755D-427E-B656-C5421A4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E80-DE69-4FF1-ABD3-7121350A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8DEB-6F1E-45C6-A1D0-524608E6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398-8F4E-45B3-9718-D90C0B61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EF8-ABB3-4E6C-B026-D6DDE25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4F8-4886-4B64-9D0E-12882D8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730-4148-4061-ABE8-0A73C998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DCE-21CE-4FA5-815F-651233E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3C8-B630-4364-8191-243A892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D3B-EB87-4900-A5EC-B6585ED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60B-D4A1-406E-A7DA-BBFCE8C1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78BE-38DB-43A2-B70B-E36AEA62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-14400"/>
            <a:ext cx="8675640" cy="687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1341000"/>
            <a:ext cx="3456000" cy="79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생리학 혁명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‘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혈액순환’의 아이디어는 어디서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정량적 방법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실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제 피의 흐름을 정밀하게 측정한 것 아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험은 이미 고안된 이론을 시험하기 위함이었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계적 철학의 영향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체의 기능을 분리해서 생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 혈관계의 역할에만 주목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펌프로서의 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하비는 기계적 철학에 비판적이었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아리스토텔레스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상학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g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의 기상 순환 모형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매일 흐르는 물의 양을 고려할 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1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간의 총량은 지구전체만큼 될 것임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 유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에 의한 물의 증발 → 공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공기의 냉각 → 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르네상스 자연주의 마술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연금술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은 소우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의 태양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은 대우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의 심장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맥혈의 동맥혈로의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perfection (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화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purification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과학혁명기의 생리학과 해부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학문적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화적 도덕적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축제 기간의 해부학 공개 강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인생무상의 도덕적 의미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프레데릭 라이쉬의 진열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기와 태아의 해골무리 → 삶의 무상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인간의 삶은 그저 게임일 뿐이다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i="1" lang="ko-KR" sz="2200" spc="-1" strike="noStrike">
                <a:solidFill>
                  <a:srgbClr val="000000"/>
                </a:solidFill>
                <a:latin typeface="Microsoft Sans Serif"/>
              </a:rPr>
              <a:t>vita humana lusus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자연신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나는 이제 이의 해부체 속에서 하느님의 전능하신 손길이 현현하심을 당신에게 설명하는 바이니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 해부체 속에서 당신은 경이로움이 경이로움 위에 쌓여 있음을 알게 될 것이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하나의 미세한 입자 속에도 하느님의 지혜가 분명히 드러나 있음을 발견하게 될 것입니다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스왐메르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-14400"/>
            <a:ext cx="86756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222800" cy="597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254480" y="404640"/>
            <a:ext cx="4889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 이후의 생리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하비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갈레노스에서 여전히 크게 벗어나지 못했음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생명의 열’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생기’와 같은 개념 유지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7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 생리학 발전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모세혈관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순환의 말단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의 발견과 폐의 기능 발견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데카르트식의 인체에 대한 기계적 설명 유행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8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기체 이론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화학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의 발전과 함께 호흡 이론 발전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9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진화론 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실험적인 생리학 →  ‘생물학’ 형성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Before Harvey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레노스 체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60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소화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흡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신경 체계 설명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소화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식물 → 자연의 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연의 영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공기 →  생명의 영 → 동맥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경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생명의 영 → 동물의 영 → 신경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팽창에 의한 피의 흡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는 격막을 통해 우→좌 이동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759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베살리우스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(Andreas Vesalius, 1514-1564)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89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파도바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바젤 대학 등에서 해부학 강의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정밀한 해부로 갈레노스의 오류 지적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인체의 구조에 대하여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&gt;(1543)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갈레노스의 오류 지적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해부학을 경험과학으로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름다움 문장과 사실적 그림으로 큰 영향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84640" y="3860640"/>
            <a:ext cx="1900080" cy="273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560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베살리우스의 도판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육체의 정확한 묘사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영혼의 사원인 육체를 신이 어떻게 디자인했는지를 보여주는 것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영웅적인 형태의 표준적인 남성상을 제시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3222720" cy="450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441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베살리우스의 해부학적 발견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베살리우스의 해부학적 발견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격막의 구멍이 존재하지 않는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좌심실과 동맥에도 혈액이 존재한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정맥에도 혈액이 존재한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동맥이 굉장히 크고 맥박이 뛴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이 심장에 가까워질수록 두터워진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기타 발견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콜롬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의 판막 발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콜롬보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르베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순환 이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02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William Harvey, 1578-165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영국 출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이탈리아 파도바 대학에서 유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제임스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의 궁정의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628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&lt;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심장과 피의 운동에 대하여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발표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70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58128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1268280"/>
            <a:ext cx="4753080" cy="297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5229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하비가 유학했던 이탈리아의 파도바 대학은 베살리우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콜롬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파브리시우스 등이 해부학 분야에서 명성을 쌓았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따라서 하비는 이 시절 해부학의 이론과 실제에 대한 경험을 풍부하게 쌓을 수 있었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의 혈액 순환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심장의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수축할 때마다 피를 동맥으로 밀어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정맥의 피를 빨아들이는 것이 아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Microsoft Sans Serif"/>
              </a:rPr>
              <a:t>정맥에 철사 집어넣는 실험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하루 동안 심장이 내보내는 피의 양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¼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온스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(7g)/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맥박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× 1000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맥박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30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분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× 2 × 24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시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= 336kg (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적어도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!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그 많은 혈액은 어디서 왔을까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혈액은 소멸되지 않고 순환하는 것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279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결찰사 실험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32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동맥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정맥 모두 막아보기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정맥만 막아보기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Confirming experiment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6050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8:41Z</dcterms:modified>
  <cp:revision>28</cp:revision>
  <dc:subject/>
  <dc:title>중세 유럽의 과학</dc:title>
</cp:coreProperties>
</file>